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838-D4DB-44E7-987C-0C5B4C86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68F-22EC-452A-A434-B7344D34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628-AE6F-4B16-A0F8-B7809324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82E-7D12-489A-8A61-815808B0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289-DDD8-4520-8992-7B59618F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1DC-4344-4418-ACD7-CC374011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099-FBF7-4594-9EF0-8A87F7C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928-05AE-4EC5-AF8F-7D359C95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C24-0E44-446E-8777-FBDBBC9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568-D0E1-4DD1-B0C6-D1E24D2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7F9-215F-46CA-A7C6-2B1AAD7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DF3-8541-43FB-B464-3B9CB07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FD2A-B5EF-417F-A294-E3334D6FC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                                         PORTOBELLO                               PRESTWICK  RINK                               PRESTWICK                               SHETLAND                                    STIR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NEHAVEN                             STONEHAVEN                   STONEHAVEN  MILLENNIUM                     TEVIOTDALE                                         THISTLE                                    TURRI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0520" y="260280"/>
            <a:ext cx="1225440" cy="117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7324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2888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68880" y="3333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77240" y="26028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08880" y="40464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8880" y="1700280"/>
            <a:ext cx="148104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728880" y="2133720"/>
            <a:ext cx="1024200" cy="106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097600" y="1989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121600" y="2060640"/>
            <a:ext cx="1044720" cy="10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31616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2000160" y="350028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3584520" y="364500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6824520" y="36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193240" y="3500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488880" y="5229360"/>
            <a:ext cx="1243080" cy="139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EEDBANK                            WEST  LOTHIAN                              WEST  LOTHIAN                            WEST  LOTHIAN  25TH                      WEST  OF  SCOTLAND         WEST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753240" y="213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5240160" y="3645000"/>
            <a:ext cx="1038240" cy="103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TEINCH                             SCOTTISH  INDOOR  B.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2144880" y="213372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73240" y="537372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21:59Z</dcterms:created>
  <dc:creator>JOHN YOUNG</dc:creator>
  <dc:description/>
  <dc:language>en-US</dc:language>
  <cp:lastModifiedBy>JY</cp:lastModifiedBy>
  <dcterms:modified xsi:type="dcterms:W3CDTF">2007-02-05T19:37:21Z</dcterms:modified>
  <cp:revision>11</cp:revision>
  <dc:subject/>
  <dc:title>PowerPoint Presentation</dc:title>
</cp:coreProperties>
</file>